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BB78D-35FA-487D-9CCC-B9E6944736C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42556-1BC9-4AE2-B7BC-333B741806B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866DE-1A65-434D-A137-C58456E905F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FEDE2-6316-4804-9D39-2985B25A6C1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2F918-AF69-4B51-82AE-46A2A1616FD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36686-C896-4D60-B913-105C4C8FCF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D8F89-9A90-4815-991A-8F71C6F2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F6EE4-B8EE-42EE-8915-33B6F5BD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D46A9-CFBA-43C5-8A61-0C5386591A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C0B18-15A0-4506-B9E8-76A819EC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9242A-FE61-4D48-8C53-BE788C2B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FABCF-14BB-48DC-B276-FBE0062A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38E1B-CE3D-412B-A6F2-CC8FF547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AE4FE-EDAD-414E-802A-23126E95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AC7C4-50DF-4A2F-B9A7-D06E3EE7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40BC3-FD76-4B4C-91C1-A3B5F501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8EA50-42B6-4FFD-8F80-E2568BF1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0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68559E-6D4D-43D6-B4FF-A1D760222456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A FECUND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ecund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1260360" y="1204920"/>
            <a:ext cx="2849760" cy="3114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3"/>
          <a:stretch/>
        </p:blipFill>
        <p:spPr>
          <a:xfrm>
            <a:off x="5791320" y="1565280"/>
            <a:ext cx="2849400" cy="3114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4"/>
          <a:stretch/>
        </p:blipFill>
        <p:spPr>
          <a:xfrm>
            <a:off x="3600360" y="3743280"/>
            <a:ext cx="2849760" cy="3114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395280" y="1989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produce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polin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4716360" y="1125360"/>
            <a:ext cx="2087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as llegar el polen al estigma, se forma el tubo polínico que crece por el estilo hasta llegar al ov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6588000" y="4941720"/>
            <a:ext cx="234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gametos masculinos descienden por el tubo polínico hasta el ovario, y se produce la fecundació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1835280" y="4869000"/>
            <a:ext cx="12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ameto femeni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7"/>
          <p:cNvSpPr/>
          <p:nvPr/>
        </p:nvSpPr>
        <p:spPr>
          <a:xfrm flipV="1">
            <a:off x="2871720" y="4770360"/>
            <a:ext cx="164628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2411280" y="5589720"/>
            <a:ext cx="12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ametos masculin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9"/>
          <p:cNvSpPr/>
          <p:nvPr/>
        </p:nvSpPr>
        <p:spPr>
          <a:xfrm flipV="1">
            <a:off x="3456000" y="5217840"/>
            <a:ext cx="122400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0"/>
          <p:cNvSpPr/>
          <p:nvPr/>
        </p:nvSpPr>
        <p:spPr>
          <a:xfrm flipV="1">
            <a:off x="3456000" y="5017680"/>
            <a:ext cx="1060560" cy="7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1"/>
          <p:cNvSpPr/>
          <p:nvPr/>
        </p:nvSpPr>
        <p:spPr>
          <a:xfrm flipV="1">
            <a:off x="3456000" y="5492880"/>
            <a:ext cx="122400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4572000" y="3141720"/>
            <a:ext cx="12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ubo polín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23"/>
          <p:cNvSpPr/>
          <p:nvPr/>
        </p:nvSpPr>
        <p:spPr>
          <a:xfrm flipV="1">
            <a:off x="5897520" y="3057480"/>
            <a:ext cx="13017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24"/>
          <p:cNvSpPr/>
          <p:nvPr/>
        </p:nvSpPr>
        <p:spPr>
          <a:xfrm flipH="1">
            <a:off x="5521320" y="3438360"/>
            <a:ext cx="6984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7451640" y="765000"/>
            <a:ext cx="12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l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26"/>
          <p:cNvSpPr/>
          <p:nvPr/>
        </p:nvSpPr>
        <p:spPr>
          <a:xfrm flipH="1">
            <a:off x="7451280" y="1042920"/>
            <a:ext cx="26028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27"/>
          <p:cNvSpPr/>
          <p:nvPr/>
        </p:nvSpPr>
        <p:spPr>
          <a:xfrm>
            <a:off x="7064280" y="3635280"/>
            <a:ext cx="835200" cy="835200"/>
          </a:xfrm>
          <a:prstGeom prst="ellipse">
            <a:avLst/>
          </a:prstGeom>
          <a:noFill/>
          <a:ln w="18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28"/>
          <p:cNvSpPr/>
          <p:nvPr/>
        </p:nvSpPr>
        <p:spPr>
          <a:xfrm flipH="1">
            <a:off x="5850000" y="4307040"/>
            <a:ext cx="1295280" cy="593640"/>
          </a:xfrm>
          <a:prstGeom prst="line">
            <a:avLst/>
          </a:prstGeom>
          <a:ln w="18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30 CuadroTexto"/>
          <p:cNvSpPr/>
          <p:nvPr/>
        </p:nvSpPr>
        <p:spPr>
          <a:xfrm>
            <a:off x="611280" y="1557360"/>
            <a:ext cx="288720" cy="337320"/>
          </a:xfrm>
          <a:prstGeom prst="rect">
            <a:avLst/>
          </a:prstGeom>
          <a:gradFill rotWithShape="0">
            <a:gsLst>
              <a:gs pos="0">
                <a:srgbClr val="1212a8"/>
              </a:gs>
              <a:gs pos="100000">
                <a:srgbClr val="1717e1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31 CuadroTexto"/>
          <p:cNvSpPr/>
          <p:nvPr/>
        </p:nvSpPr>
        <p:spPr>
          <a:xfrm>
            <a:off x="4788000" y="765000"/>
            <a:ext cx="288720" cy="337320"/>
          </a:xfrm>
          <a:prstGeom prst="rect">
            <a:avLst/>
          </a:prstGeom>
          <a:gradFill rotWithShape="0">
            <a:gsLst>
              <a:gs pos="0">
                <a:srgbClr val="1212a8"/>
              </a:gs>
              <a:gs pos="100000">
                <a:srgbClr val="1717e1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32 CuadroTexto"/>
          <p:cNvSpPr/>
          <p:nvPr/>
        </p:nvSpPr>
        <p:spPr>
          <a:xfrm>
            <a:off x="6875640" y="4581360"/>
            <a:ext cx="288720" cy="337320"/>
          </a:xfrm>
          <a:prstGeom prst="rect">
            <a:avLst/>
          </a:prstGeom>
          <a:gradFill rotWithShape="0">
            <a:gsLst>
              <a:gs pos="0">
                <a:srgbClr val="1212a8"/>
              </a:gs>
              <a:gs pos="100000">
                <a:srgbClr val="1717e1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13:51Z</dcterms:modified>
  <cp:revision>47</cp:revision>
  <dc:subject/>
  <dc:title>Diapositiva 1</dc:title>
</cp:coreProperties>
</file>